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6EDCA-2952-45E2-B6FA-06F12AD24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biologyreference.com/Mo-Nu/Nucleotides.html#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mwsu-bio101.ning.com/profiles/blogs/the-molecules-within-you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mwsu-bio101.ning.com/profiles/blogs/the-molecules-within-you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bio.davidson.edu/Courses/Molbio/MolStudents/spring2010/Webb/a-amylas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bio.davidson.edu/Courses/Molbio/MolStudents/spring2010/Webb/a-amylas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dl.clackamas.edu/ch106-07/sucros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dl.clackamas.edu/ch106-07/sucros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lest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telstar.ote.cmu.edu/biology/MembranePage/index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lest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telstar.ote.cmu.edu/biology/MembranePage/index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rsbooks.net/appendi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rsbooks.net/appendi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indiana.edu/~oso/Fat/SolidNLiquid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indiana.edu/~oso/Fat/SolidNLiquid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indiana.edu/~oso/Fat/SolidNLiquid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indiana.edu/~oso/Fat/SolidNLiquid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proteins-structure.com/2011/09/30/amino-acid-structur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proteins-structure.com/2011/09/30/amino-acid-structur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bio.uoguelph.ca/educmat/phy456/456lec01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bio.uoguelph.ca/educmat/phy456/456lec01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en.wikipedia.org/wiki/File:RNA-comparedto-DNA_thymineAndUracilCorrected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guide.co.uk/organicprops/aminoacids/dna1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guide.co.uk/organicprops/aminoacids/dna1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chemed.chem.purdue.edu/genchem/topicreview/bp/2organic/functio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chemed.chem.purdue.edu/genchem/topicreview/bp/2organic/functio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ramster.com/answers-sep-11/chemistry/molecule-molecule-functional-groups-pr_1468775.aspx?rec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ramster.com/answers-sep-11/chemistry/molecule-molecule-functional-groups-pr_1468775.aspx?rec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biologyreference.com/Mo-Nu/Nucleotides.html#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7602-028F-41AE-A5B5-4D88024DF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F1B9-A149-4E5E-80C9-9C5B89ACE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A749-7B8E-4A3D-A5F4-FB957D0D1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CC81-2CE1-4F2E-AA7F-42613D584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2650-4233-4643-855D-76F2FFD43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1286-18B8-4D18-9A3B-CF0CFEB8F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FD12-9773-4925-B4F4-7AEA9DD59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608F-BF52-4C71-A9A0-247D05B5F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8AA0-9269-4B41-8B86-45EA1B55D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7536-E2B5-421A-8E08-950976DB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B3FF-87A3-4DAC-81B2-5FEB2A56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0659-37D4-4075-995B-F71684EA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99C54-8B69-41DD-BE67-9A81BDAF6C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romolecule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hosphate, hydroxyl, amino, carbony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181240" y="1981080"/>
            <a:ext cx="4780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bohydr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bohydrate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2 polysaccharides that are used as energy stor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tarch and glyc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2 polysaccharides that are used for structural sup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ellulose and chit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611440" y="1981080"/>
            <a:ext cx="3919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nosacchar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611440" y="1981080"/>
            <a:ext cx="3919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5800" y="2550960"/>
            <a:ext cx="777240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olysaccharid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it continues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85800" y="2550960"/>
            <a:ext cx="777240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76240" y="1981080"/>
            <a:ext cx="7391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isaccharide (sucros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876240" y="1981080"/>
            <a:ext cx="7391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p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pids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most common type of lip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ils and fats (triglycerid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other types of lipi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hospholipids, waxes, ster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pids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chemical components of a triglycer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lycerol + 3 fatty 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pids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difference between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atura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a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nsatura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atty ac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aturated fatty acids have no double bonds between carbon atoms;  have the maximum number of H atoms attached (are fully “saturated” with H atom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pids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type of fat is usually solid at room tempera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aturated f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make an unsaturated fat solid at room tempera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ydroge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05080" y="1981080"/>
            <a:ext cx="633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eroid/sterol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(cholestero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05080" y="1981080"/>
            <a:ext cx="633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he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154240" y="1981080"/>
            <a:ext cx="4835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atty acids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saturated &amp; unsatura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154240" y="1981080"/>
            <a:ext cx="4835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85800" y="2639880"/>
            <a:ext cx="777240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hospholip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85800" y="2639880"/>
            <a:ext cx="777240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functional group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ydroxy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O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arboxy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m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85800" y="2214720"/>
            <a:ext cx="777240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at (triglycerid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5800" y="2214720"/>
            <a:ext cx="777240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basic unit of a prote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mino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name of the bond formed between 2 amino acids in a prote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eptide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amino acids are there in total?  How many are “essential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20 (8 are essenti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85800" y="2000160"/>
            <a:ext cx="777240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 amino ac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" y="2000160"/>
            <a:ext cx="777240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616040" y="1981080"/>
            <a:ext cx="5910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olypept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616040" y="1981080"/>
            <a:ext cx="5910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cleic 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nitrogenous base pairs with A (adenine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 (thym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nitrogenous base pairs with G (guanine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 (cytos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he differenc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544840" y="1981080"/>
            <a:ext cx="4052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functional group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=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arbony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ulfhydry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hosph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NA single-stranded, has uracil (not thymine), has ribose (not deoxyribose), involved in protein synthesis but only the hereditary material of some vir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NA double-stranded, has thymine, has deoxyribose, hereditary material, involved in protein 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2400" y="1981080"/>
            <a:ext cx="4759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(deoxyribo)nucleot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2400" y="1981080"/>
            <a:ext cx="4759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 the functional group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849400" y="1981080"/>
            <a:ext cx="3445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99"/>
                </a:solidFill>
                <a:latin typeface="Arial"/>
              </a:rPr>
              <a:t>carboxyl, carbonyl, hydroxy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849400" y="1981080"/>
            <a:ext cx="3445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 the functional group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46400" y="1981080"/>
            <a:ext cx="4649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arbony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46400" y="1981080"/>
            <a:ext cx="4649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 the functional group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181240" y="1981080"/>
            <a:ext cx="4780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4T17:34:16Z</dcterms:created>
  <dc:creator>rubina khan</dc:creator>
  <dc:description/>
  <dc:language>en-US</dc:language>
  <cp:lastModifiedBy>rubina khan</cp:lastModifiedBy>
  <dcterms:modified xsi:type="dcterms:W3CDTF">2012-09-24T16:05:41Z</dcterms:modified>
  <cp:revision>81</cp:revision>
  <dc:subject/>
  <dc:title>Carbohydrate Review</dc:title>
</cp:coreProperties>
</file>